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8.gif" ContentType="image/gif"/>
  <Override PartName="/ppt/media/cashreg.wav" ContentType="audio/x-wav"/>
  <Override PartName="/ppt/media/image13.png" ContentType="image/png"/>
  <Override PartName="/ppt/media/whoosh.wav" ContentType="audio/x-wav"/>
  <Override PartName="/ppt/media/image5.png" ContentType="image/png"/>
  <Override PartName="/ppt/media/image2.gif" ContentType="image/gif"/>
  <Override PartName="/ppt/media/image10.png" ContentType="image/png"/>
  <Override PartName="/ppt/media/image4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20.gif" ContentType="image/gif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3CA-7F03-4FD9-99D2-A031488D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D79-79AC-4366-9086-FF77B962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2CF-BF51-4A4B-ADD2-4E8EFB81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6C6-6A9B-45DD-A5D9-4FB7DDB7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628E-71B1-4E21-B4E3-8D4A4771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99DA-AF13-4AF0-B50C-0579FAA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7EB4-9E4E-4180-A59A-B5918033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D926-E564-4C36-B959-0BDAD07F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72BE-B40C-444B-865B-0E804CBA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3696-19ED-427F-B8F6-41D0DA3A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8EBF-5229-422E-8F1A-D48AAA31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26A-74CE-4490-ABA9-22BCE6CF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C233-6D7A-4647-A9DD-BDD8FE63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3FEC-7F42-4BBA-BDB0-E0286F0E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139F-46A7-4EAA-85D0-FCE43AD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2304-43C8-4C43-907F-E0CE1055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30BA-6148-4255-AF4E-0973A37A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B6D-3E13-4516-BDB7-C33C14EB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74D-3CFE-4893-AE2E-73FCEC7C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F31-21C1-459A-8CA8-744C5329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8A7-C85D-453D-8E8E-D0874F84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077-19C1-45D6-ADED-E733F2A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39B-3574-46DC-ABD6-3BA3399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F1C-8E77-425E-90D4-E3981B05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1F4D-DA6F-4E75-82C7-1E9658CED2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D0B1-0DB4-4814-97B1-7296FF12CE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whoosh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nf.1september.ru/" TargetMode="External"/><Relationship Id="rId2" Type="http://schemas.openxmlformats.org/officeDocument/2006/relationships/hyperlink" Target="http://inf.1september.ru/" TargetMode="External"/><Relationship Id="rId3" Type="http://schemas.openxmlformats.org/officeDocument/2006/relationships/hyperlink" Target="http://inf.1september.ru/" TargetMode="External"/><Relationship Id="rId4" Type="http://schemas.openxmlformats.org/officeDocument/2006/relationships/hyperlink" Target="http://inf.1september.ru/" TargetMode="External"/><Relationship Id="rId5" Type="http://schemas.openxmlformats.org/officeDocument/2006/relationships/hyperlink" Target="http://inf.1september.ru/" TargetMode="External"/><Relationship Id="rId6" Type="http://schemas.openxmlformats.org/officeDocument/2006/relationships/hyperlink" Target="http://inf.1september.ru/howido/2_023.doc" TargetMode="External"/><Relationship Id="rId7" Type="http://schemas.openxmlformats.org/officeDocument/2006/relationships/hyperlink" Target="http://inf.1september.ru/howido/2_023.doc" TargetMode="External"/><Relationship Id="rId8" Type="http://schemas.openxmlformats.org/officeDocument/2006/relationships/hyperlink" Target="http://inf.1september.ru/howido/2_023.doc" TargetMode="External"/><Relationship Id="rId9" Type="http://schemas.openxmlformats.org/officeDocument/2006/relationships/hyperlink" Target="http://robotlandia.ru/demo/comp/pic/summary.pn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920" y="5013360"/>
            <a:ext cx="861048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авила поведения в компьютерном клас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работы за компью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1260360" y="4127400"/>
            <a:ext cx="67676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ервая встреча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1187280" y="4632480"/>
            <a:ext cx="6782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 компьютером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AutoShape 6">
            <a:hlinkClick r:id="" action="ppaction://hlinkshowjump?jump=nextslide"/>
          </p:cNvPr>
          <p:cNvSpPr/>
          <p:nvPr/>
        </p:nvSpPr>
        <p:spPr>
          <a:xfrm>
            <a:off x="4660920" y="595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7">
            <a:hlinkClick r:id="" action="ppaction://hlinkshowjump?jump=endshow"/>
          </p:cNvPr>
          <p:cNvSpPr/>
          <p:nvPr/>
        </p:nvSpPr>
        <p:spPr>
          <a:xfrm>
            <a:off x="2895480" y="595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2052720" y="6453360"/>
            <a:ext cx="5040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Times New Roman"/>
              </a:rPr>
              <a:t>Барабанов Николай Владимирович, учитель информатики высшей категор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ffffff"/>
                </a:solidFill>
                <a:latin typeface="Times New Roman"/>
              </a:rPr>
              <a:t>Государственное учреждение образования «Поколюбичская средняя школа»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25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Проверим воспитанность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05200" y="2514600"/>
            <a:ext cx="443880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 трогайте экран монитора даже чистыми пальцами — на нем все равно останутся сле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8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9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1025"/>
          <p:cNvGrpSpPr/>
          <p:nvPr/>
        </p:nvGrpSpPr>
        <p:grpSpPr>
          <a:xfrm>
            <a:off x="428760" y="2143080"/>
            <a:ext cx="2860560" cy="2884320"/>
            <a:chOff x="428760" y="2143080"/>
            <a:chExt cx="2860560" cy="2884320"/>
          </a:xfrm>
        </p:grpSpPr>
        <p:pic>
          <p:nvPicPr>
            <p:cNvPr id="209" name="Picture 6" descr="Не трогайте экран монитора"/>
            <p:cNvPicPr/>
            <p:nvPr/>
          </p:nvPicPr>
          <p:blipFill>
            <a:blip r:embed="rId1"/>
            <a:stretch/>
          </p:blipFill>
          <p:spPr>
            <a:xfrm>
              <a:off x="430200" y="2157120"/>
              <a:ext cx="285768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"/>
            <p:cNvSpPr/>
            <p:nvPr/>
          </p:nvSpPr>
          <p:spPr>
            <a:xfrm>
              <a:off x="428760" y="2143080"/>
              <a:ext cx="2860560" cy="2884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7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Дисциплина – важнейшее требование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60360" y="1773000"/>
            <a:ext cx="536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ужно помнить всем вам, дет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 очень важно знать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исциплину в кабинет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ужно строго соблюда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крикливым шалунишкам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ем, что любят поиграть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десь не место - много слишко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невзначай сломать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0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11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714240" y="2071800"/>
            <a:ext cx="2860560" cy="2884320"/>
            <a:chOff x="714240" y="2071800"/>
            <a:chExt cx="2860560" cy="2884320"/>
          </a:xfrm>
        </p:grpSpPr>
        <p:pic>
          <p:nvPicPr>
            <p:cNvPr id="216" name="Picture 8" descr="Важнейшее требование — дисциплина!"/>
            <p:cNvPicPr/>
            <p:nvPr/>
          </p:nvPicPr>
          <p:blipFill>
            <a:blip r:embed="rId1"/>
            <a:stretch/>
          </p:blipFill>
          <p:spPr>
            <a:xfrm>
              <a:off x="715680" y="2085840"/>
              <a:ext cx="285768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Oval 1"/>
            <p:cNvSpPr/>
            <p:nvPr/>
          </p:nvSpPr>
          <p:spPr>
            <a:xfrm>
              <a:off x="714240" y="2071800"/>
              <a:ext cx="2860560" cy="2884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9789E-006 L -0.28351 0.00023 E">
                                      <p:cBhvr>
                                        <p:cTn id="50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Дорогой друг !!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а поведения в кабинете информатики не слишком сложны. Но соблюдать их нужно очень строго. Будучи внимательными к своим машинам, вы многому научитесь, много интересного увидите на экран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1037" descr="02"/>
          <p:cNvPicPr/>
          <p:nvPr/>
        </p:nvPicPr>
        <p:blipFill>
          <a:blip r:embed="rId1"/>
          <a:stretch/>
        </p:blipFill>
        <p:spPr>
          <a:xfrm>
            <a:off x="4932360" y="1773360"/>
            <a:ext cx="370188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ы должны хорошо знать и выполнять эти правила, чтобы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58920" y="1413000"/>
            <a:ext cx="601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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избежать несчастных случаев и сохранить своё здоровь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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спешно овладевать знаниями, умениями, навыкам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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хранить дорогостоящую технику –компьютеры и другие устр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4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5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1025" descr="smart_guy_thinking_hg_clr"/>
          <p:cNvPicPr/>
          <p:nvPr/>
        </p:nvPicPr>
        <p:blipFill>
          <a:blip r:embed="rId1"/>
          <a:stretch/>
        </p:blipFill>
        <p:spPr>
          <a:xfrm flipH="1">
            <a:off x="574560" y="2060640"/>
            <a:ext cx="24861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Упражнени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583240" y="1197000"/>
            <a:ext cx="4533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ич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уд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ециали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ас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спер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фессиона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6"/>
          <p:cNvSpPr/>
          <p:nvPr/>
        </p:nvSpPr>
        <p:spPr>
          <a:xfrm>
            <a:off x="4643280" y="1411200"/>
            <a:ext cx="576360" cy="576360"/>
          </a:xfrm>
          <a:prstGeom prst="ellipse">
            <a:avLst/>
          </a:prstGeom>
          <a:gradFill rotWithShape="0">
            <a:gsLst>
              <a:gs pos="0">
                <a:srgbClr val="004776"/>
              </a:gs>
              <a:gs pos="100000">
                <a:srgbClr val="0099ff"/>
              </a:gs>
            </a:gsLst>
            <a:lin ang="27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Oval 5"/>
          <p:cNvSpPr/>
          <p:nvPr/>
        </p:nvSpPr>
        <p:spPr>
          <a:xfrm rot="10800000">
            <a:off x="4692600" y="1460520"/>
            <a:ext cx="479520" cy="479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lin ang="135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Oval 29"/>
          <p:cNvSpPr/>
          <p:nvPr/>
        </p:nvSpPr>
        <p:spPr>
          <a:xfrm>
            <a:off x="4643280" y="2217600"/>
            <a:ext cx="576360" cy="576360"/>
          </a:xfrm>
          <a:prstGeom prst="ellipse">
            <a:avLst/>
          </a:prstGeom>
          <a:gradFill rotWithShape="0">
            <a:gsLst>
              <a:gs pos="0">
                <a:srgbClr val="004776"/>
              </a:gs>
              <a:gs pos="100000">
                <a:srgbClr val="0099ff"/>
              </a:gs>
            </a:gsLst>
            <a:lin ang="27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Oval 30"/>
          <p:cNvSpPr/>
          <p:nvPr/>
        </p:nvSpPr>
        <p:spPr>
          <a:xfrm rot="10800000">
            <a:off x="4692600" y="2266920"/>
            <a:ext cx="479520" cy="479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lin ang="135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 32"/>
          <p:cNvSpPr/>
          <p:nvPr/>
        </p:nvSpPr>
        <p:spPr>
          <a:xfrm>
            <a:off x="4643280" y="3860640"/>
            <a:ext cx="576360" cy="576360"/>
          </a:xfrm>
          <a:prstGeom prst="ellipse">
            <a:avLst/>
          </a:prstGeom>
          <a:gradFill rotWithShape="0">
            <a:gsLst>
              <a:gs pos="0">
                <a:srgbClr val="004776"/>
              </a:gs>
              <a:gs pos="100000">
                <a:srgbClr val="0099ff"/>
              </a:gs>
            </a:gsLst>
            <a:lin ang="27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Oval 33"/>
          <p:cNvSpPr/>
          <p:nvPr/>
        </p:nvSpPr>
        <p:spPr>
          <a:xfrm rot="10800000">
            <a:off x="4692600" y="3909960"/>
            <a:ext cx="479520" cy="479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lin ang="135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Oval 35"/>
          <p:cNvSpPr/>
          <p:nvPr/>
        </p:nvSpPr>
        <p:spPr>
          <a:xfrm>
            <a:off x="4643280" y="4638600"/>
            <a:ext cx="576360" cy="576360"/>
          </a:xfrm>
          <a:prstGeom prst="ellipse">
            <a:avLst/>
          </a:prstGeom>
          <a:gradFill rotWithShape="0">
            <a:gsLst>
              <a:gs pos="0">
                <a:srgbClr val="004776"/>
              </a:gs>
              <a:gs pos="100000">
                <a:srgbClr val="0099ff"/>
              </a:gs>
            </a:gsLst>
            <a:lin ang="27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Oval 36"/>
          <p:cNvSpPr/>
          <p:nvPr/>
        </p:nvSpPr>
        <p:spPr>
          <a:xfrm rot="10800000">
            <a:off x="4692600" y="4687920"/>
            <a:ext cx="479520" cy="479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lin ang="135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Oval 38"/>
          <p:cNvSpPr/>
          <p:nvPr/>
        </p:nvSpPr>
        <p:spPr>
          <a:xfrm>
            <a:off x="4643280" y="5445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004776"/>
              </a:gs>
              <a:gs pos="100000">
                <a:srgbClr val="0099ff"/>
              </a:gs>
            </a:gsLst>
            <a:lin ang="27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Oval 39"/>
          <p:cNvSpPr/>
          <p:nvPr/>
        </p:nvSpPr>
        <p:spPr>
          <a:xfrm rot="10800000">
            <a:off x="4692600" y="5494320"/>
            <a:ext cx="479520" cy="479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lin ang="135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6" descr="smart_guy_teaching_hg_clr"/>
          <p:cNvPicPr/>
          <p:nvPr/>
        </p:nvPicPr>
        <p:blipFill>
          <a:blip r:embed="rId1"/>
          <a:stretch/>
        </p:blipFill>
        <p:spPr>
          <a:xfrm>
            <a:off x="250920" y="1557360"/>
            <a:ext cx="4321080" cy="432108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49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50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Oval 51"/>
          <p:cNvSpPr/>
          <p:nvPr/>
        </p:nvSpPr>
        <p:spPr>
          <a:xfrm>
            <a:off x="4643280" y="3019320"/>
            <a:ext cx="576360" cy="576360"/>
          </a:xfrm>
          <a:prstGeom prst="ellipse">
            <a:avLst/>
          </a:prstGeom>
          <a:gradFill rotWithShape="0">
            <a:gsLst>
              <a:gs pos="0">
                <a:srgbClr val="004776"/>
              </a:gs>
              <a:gs pos="100000">
                <a:srgbClr val="0099ff"/>
              </a:gs>
            </a:gsLst>
            <a:lin ang="27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52"/>
          <p:cNvSpPr/>
          <p:nvPr/>
        </p:nvSpPr>
        <p:spPr>
          <a:xfrm rot="10800000">
            <a:off x="4692600" y="3068640"/>
            <a:ext cx="479520" cy="479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lin ang="13500000"/>
          </a:gradFill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6920" y="4723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у компьютера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AutoShape 8">
            <a:hlinkClick r:id="" action="ppaction://hlinkshowjump?jump=endshow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9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18" descr="02"/>
          <p:cNvPicPr/>
          <p:nvPr/>
        </p:nvPicPr>
        <p:blipFill>
          <a:blip r:embed="rId1"/>
          <a:stretch/>
        </p:blipFill>
        <p:spPr>
          <a:xfrm>
            <a:off x="2916360" y="1628640"/>
            <a:ext cx="2739960" cy="2880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9"/>
          <p:cNvSpPr/>
          <p:nvPr/>
        </p:nvSpPr>
        <p:spPr>
          <a:xfrm>
            <a:off x="900000" y="8355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До новых встре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8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Использованные источники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ихи, задания для ситуаций </a:t>
            </a: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1"/>
              </a:rPr>
              <a:t>inf</a:t>
            </a:r>
            <a:r>
              <a:rPr b="0" lang="ru-RU" sz="20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.1</a:t>
            </a: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3"/>
              </a:rPr>
              <a:t>september</a:t>
            </a:r>
            <a:r>
              <a:rPr b="0" lang="ru-RU" sz="20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5"/>
              </a:rPr>
              <a:t>ru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›</a:t>
            </a: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howido</a:t>
            </a:r>
            <a:r>
              <a:rPr b="0" lang="ru-RU" sz="2000" spc="-1" strike="noStrike" u="sng">
                <a:solidFill>
                  <a:srgbClr val="f98d43"/>
                </a:solidFill>
                <a:uFillTx/>
                <a:latin typeface="Arial"/>
                <a:hlinkClick r:id="rId7"/>
              </a:rPr>
              <a:t>/2_023.</a:t>
            </a:r>
            <a:r>
              <a:rPr b="0" lang="en-US" sz="2000" spc="-1" strike="noStrike" u="sng">
                <a:solidFill>
                  <a:srgbClr val="f98d43"/>
                </a:solidFill>
                <a:uFillTx/>
                <a:latin typeface="Arial"/>
                <a:hlinkClick r:id="rId8"/>
              </a:rPr>
              <a:t>do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инки профессора и символо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правилам пове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http://robotlandia.ru/demo/comp/pic/summary.p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robotlandia.ru/demo/comp/pic/0118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robotlandia.ru/demo/comp/pic/0117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robotlandia.ru/demo/comp/pic/0116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robotlandia.ru/demo/comp/pic/0114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robotlandia.ru/demo/comp/pic/0115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robotlandia.ru/abc/0102z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сунки плак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a3b"/>
                </a:solidFill>
                <a:latin typeface="Arial"/>
              </a:rPr>
              <a:t>Газета «Информатика» Спецвыпуск «Подписка-2006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аблон первого слайда и картинки «ген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a3b"/>
                </a:solidFill>
                <a:latin typeface="Arial"/>
              </a:rPr>
              <a:t>http://metod-kopilka.ru/pics/pot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30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30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0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3858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Дорогой друг !!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4581360"/>
            <a:ext cx="874872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рады, что ты решил обучаться работе на  компьютере  и  сейчас  мы  познакомим  тебя  с  правилами техники безопасности и поведения  в  компьютерном класс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7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10" descr="02"/>
          <p:cNvPicPr/>
          <p:nvPr/>
        </p:nvPicPr>
        <p:blipFill>
          <a:blip r:embed="rId1"/>
          <a:srcRect l="0" t="0" r="3008" b="33109"/>
          <a:stretch/>
        </p:blipFill>
        <p:spPr>
          <a:xfrm>
            <a:off x="611280" y="115920"/>
            <a:ext cx="4248000" cy="357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237"/>
          <p:cNvPicPr/>
          <p:nvPr/>
        </p:nvPicPr>
        <p:blipFill>
          <a:blip r:embed="rId2"/>
          <a:srcRect l="0" t="0" r="0" b="28629"/>
          <a:stretch/>
        </p:blipFill>
        <p:spPr>
          <a:xfrm>
            <a:off x="3995640" y="349200"/>
            <a:ext cx="3816360" cy="336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teacher_kids_waving"/>
          <p:cNvPicPr/>
          <p:nvPr/>
        </p:nvPicPr>
        <p:blipFill>
          <a:blip r:embed="rId3"/>
          <a:stretch/>
        </p:blipFill>
        <p:spPr>
          <a:xfrm>
            <a:off x="4886280" y="719280"/>
            <a:ext cx="20257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Компьютер любит чистот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773360"/>
            <a:ext cx="48592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 работали исправ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компьютеры всег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жно помнить вам о главно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ное здесь — чист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уртках, шубах, и паль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риходит к нам никто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грязной обуви друзь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бинетах быть нельз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ут крупные проблем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тит пыль электросхем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9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0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Group 3072"/>
          <p:cNvGrpSpPr/>
          <p:nvPr/>
        </p:nvGrpSpPr>
        <p:grpSpPr>
          <a:xfrm>
            <a:off x="357120" y="1714680"/>
            <a:ext cx="3699000" cy="3698640"/>
            <a:chOff x="357120" y="1714680"/>
            <a:chExt cx="3699000" cy="3698640"/>
          </a:xfrm>
        </p:grpSpPr>
        <p:pic>
          <p:nvPicPr>
            <p:cNvPr id="160" name="Picture 2048" descr="01"/>
            <p:cNvPicPr/>
            <p:nvPr/>
          </p:nvPicPr>
          <p:blipFill>
            <a:blip r:embed="rId1"/>
            <a:stretch/>
          </p:blipFill>
          <p:spPr>
            <a:xfrm>
              <a:off x="357120" y="1714680"/>
              <a:ext cx="3699000" cy="36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Oval 3072"/>
            <p:cNvSpPr/>
            <p:nvPr/>
          </p:nvSpPr>
          <p:spPr>
            <a:xfrm>
              <a:off x="706680" y="2098440"/>
              <a:ext cx="2987640" cy="2879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30712 3.33333E-006 E">
                                      <p:cBhvr>
                                        <p:cTn id="9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Взгляните на ваши руки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175280" y="162828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липки ваши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несъеденных конф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 не трите их о брю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яясь в каби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испачкано, пор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мывать нельзя вод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9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026"/>
          <p:cNvGrpSpPr/>
          <p:nvPr/>
        </p:nvGrpSpPr>
        <p:grpSpPr>
          <a:xfrm>
            <a:off x="642960" y="1714680"/>
            <a:ext cx="2860560" cy="2884320"/>
            <a:chOff x="642960" y="1714680"/>
            <a:chExt cx="2860560" cy="2884320"/>
          </a:xfrm>
        </p:grpSpPr>
        <p:pic>
          <p:nvPicPr>
            <p:cNvPr id="167" name="Picture 6" descr="Руки должны быть чистыми"/>
            <p:cNvPicPr/>
            <p:nvPr/>
          </p:nvPicPr>
          <p:blipFill>
            <a:blip r:embed="rId1"/>
            <a:stretch/>
          </p:blipFill>
          <p:spPr>
            <a:xfrm>
              <a:off x="644400" y="1728720"/>
              <a:ext cx="285768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Oval 1"/>
            <p:cNvSpPr/>
            <p:nvPr/>
          </p:nvSpPr>
          <p:spPr>
            <a:xfrm>
              <a:off x="642960" y="1714680"/>
              <a:ext cx="2860560" cy="2884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712 0 E">
                                      <p:cBhvr>
                                        <p:cTn id="15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Вы не успели пообедать перед занятием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89120" y="1844280"/>
            <a:ext cx="475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от, обедая в столовой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 услышали звонок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 вам уже не ново —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читесь с булкой на урок.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топ! Сюда вам хода нет!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Хоть и булочки вкусны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десь недопустим обед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десь — рабочие столы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рошки в клавишах поро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влекут в работе сбой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9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0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1025"/>
          <p:cNvGrpSpPr/>
          <p:nvPr/>
        </p:nvGrpSpPr>
        <p:grpSpPr>
          <a:xfrm>
            <a:off x="714240" y="1857240"/>
            <a:ext cx="2860560" cy="2884320"/>
            <a:chOff x="714240" y="1857240"/>
            <a:chExt cx="2860560" cy="2884320"/>
          </a:xfrm>
        </p:grpSpPr>
        <p:pic>
          <p:nvPicPr>
            <p:cNvPr id="174" name="Picture 6" descr="Кушать надо в столовой!"/>
            <p:cNvPicPr/>
            <p:nvPr/>
          </p:nvPicPr>
          <p:blipFill>
            <a:blip r:embed="rId1"/>
            <a:stretch/>
          </p:blipFill>
          <p:spPr>
            <a:xfrm>
              <a:off x="718920" y="1875960"/>
              <a:ext cx="2849760" cy="28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Oval 1025"/>
            <p:cNvSpPr/>
            <p:nvPr/>
          </p:nvSpPr>
          <p:spPr>
            <a:xfrm>
              <a:off x="714240" y="1857240"/>
              <a:ext cx="2860560" cy="2884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9789E-006 L -0.26771 0.00023 E">
                                      <p:cBhvr>
                                        <p:cTn id="20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" presetSubtype="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1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Жевачка – враг чистоты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16000" y="2349360"/>
            <a:ext cx="5327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жевательной резинк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им помнить вас, друзь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о в мусорной корзинк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жевать ее нельз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испачкано, пор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мывать нельзя вод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4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5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428760" y="2143080"/>
            <a:ext cx="2860560" cy="2884320"/>
            <a:chOff x="428760" y="2143080"/>
            <a:chExt cx="2860560" cy="2884320"/>
          </a:xfrm>
        </p:grpSpPr>
        <p:pic>
          <p:nvPicPr>
            <p:cNvPr id="181" name="Picture 22" descr="Жвачка запрещена"/>
            <p:cNvPicPr/>
            <p:nvPr/>
          </p:nvPicPr>
          <p:blipFill>
            <a:blip r:embed="rId1"/>
            <a:stretch/>
          </p:blipFill>
          <p:spPr>
            <a:xfrm>
              <a:off x="430200" y="2157120"/>
              <a:ext cx="285768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Oval 2"/>
            <p:cNvSpPr/>
            <p:nvPr/>
          </p:nvSpPr>
          <p:spPr>
            <a:xfrm>
              <a:off x="428760" y="2143080"/>
              <a:ext cx="2860560" cy="2884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29931 0.00023 E">
                                      <p:cBhvr>
                                        <p:cTn id="27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Будьте осторожны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35280" y="1916280"/>
            <a:ext cx="46083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хватайтесь для опо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 за ЭЛЕКТРОШН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напряжением в се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, дружочек, не шут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8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9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2050"/>
          <p:cNvGrpSpPr/>
          <p:nvPr/>
        </p:nvGrpSpPr>
        <p:grpSpPr>
          <a:xfrm>
            <a:off x="714240" y="1785960"/>
            <a:ext cx="2860560" cy="2884320"/>
            <a:chOff x="714240" y="1785960"/>
            <a:chExt cx="2860560" cy="2884320"/>
          </a:xfrm>
        </p:grpSpPr>
        <p:pic>
          <p:nvPicPr>
            <p:cNvPr id="188" name="Picture 6" descr="Высокое напряжение опасно для жизни"/>
            <p:cNvPicPr/>
            <p:nvPr/>
          </p:nvPicPr>
          <p:blipFill>
            <a:blip r:embed="rId1"/>
            <a:stretch/>
          </p:blipFill>
          <p:spPr>
            <a:xfrm>
              <a:off x="715680" y="1800360"/>
              <a:ext cx="285768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Oval 1025"/>
            <p:cNvSpPr/>
            <p:nvPr/>
          </p:nvSpPr>
          <p:spPr>
            <a:xfrm>
              <a:off x="714240" y="1785960"/>
              <a:ext cx="2860560" cy="2884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23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868320"/>
            <a:ext cx="91440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cc00"/>
                </a:solidFill>
                <a:latin typeface="Arial Black"/>
              </a:rPr>
              <a:t>Клавиатура – «нежное» устройство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66920" y="1628640"/>
            <a:ext cx="5257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льно жать клавиату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 не должен никогда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вам не физкульту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сильнейший прав всег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режливым быть ум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о клавишам не б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м, учтите этот фак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ический контак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8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9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Group 1026"/>
          <p:cNvGrpSpPr/>
          <p:nvPr/>
        </p:nvGrpSpPr>
        <p:grpSpPr>
          <a:xfrm>
            <a:off x="357120" y="1857240"/>
            <a:ext cx="2860560" cy="2884320"/>
            <a:chOff x="357120" y="1857240"/>
            <a:chExt cx="2860560" cy="2884320"/>
          </a:xfrm>
        </p:grpSpPr>
        <p:pic>
          <p:nvPicPr>
            <p:cNvPr id="195" name="Picture 6" descr="Нельзя барабанить по клавишам"/>
            <p:cNvPicPr/>
            <p:nvPr/>
          </p:nvPicPr>
          <p:blipFill>
            <a:blip r:embed="rId1"/>
            <a:stretch/>
          </p:blipFill>
          <p:spPr>
            <a:xfrm>
              <a:off x="358560" y="1871280"/>
              <a:ext cx="285768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1"/>
            <p:cNvSpPr/>
            <p:nvPr/>
          </p:nvSpPr>
          <p:spPr>
            <a:xfrm>
              <a:off x="357120" y="1857240"/>
              <a:ext cx="2860560" cy="2884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32292 0.00023 E">
                                      <p:cBhvr>
                                        <p:cTn id="36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2808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Очень важная кнопк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компьютера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350960" y="1628280"/>
            <a:ext cx="4792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хотелось бы заран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наказ еще так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нельзя без указ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нопки трогать ни одн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инай работ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разрешенья педагог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учти, что ты в отве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порядок в кабине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8">
            <a:hlinkClick r:id="" action="ppaction://hlinkshowjump?jump=nextslide"/>
          </p:cNvPr>
          <p:cNvSpPr/>
          <p:nvPr/>
        </p:nvSpPr>
        <p:spPr>
          <a:xfrm>
            <a:off x="466092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c8ac2"/>
              </a:gs>
              <a:gs pos="100000">
                <a:srgbClr val="0000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9">
            <a:hlinkClick r:id="" action="ppaction://hlinkshowjump?jump=previousslide"/>
          </p:cNvPr>
          <p:cNvSpPr/>
          <p:nvPr/>
        </p:nvSpPr>
        <p:spPr>
          <a:xfrm>
            <a:off x="2895480" y="635796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c8ac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1024"/>
          <p:cNvGrpSpPr/>
          <p:nvPr/>
        </p:nvGrpSpPr>
        <p:grpSpPr>
          <a:xfrm>
            <a:off x="500040" y="2071800"/>
            <a:ext cx="2736720" cy="2736720"/>
            <a:chOff x="500040" y="2071800"/>
            <a:chExt cx="2736720" cy="2736720"/>
          </a:xfrm>
        </p:grpSpPr>
        <p:pic>
          <p:nvPicPr>
            <p:cNvPr id="202" name="Picture 1026" descr="Знак к ТБ"/>
            <p:cNvPicPr/>
            <p:nvPr/>
          </p:nvPicPr>
          <p:blipFill>
            <a:blip r:embed="rId1"/>
            <a:stretch/>
          </p:blipFill>
          <p:spPr>
            <a:xfrm>
              <a:off x="500040" y="2071800"/>
              <a:ext cx="273672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1024"/>
            <p:cNvSpPr/>
            <p:nvPr/>
          </p:nvSpPr>
          <p:spPr>
            <a:xfrm>
              <a:off x="500040" y="2071800"/>
              <a:ext cx="2736720" cy="273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2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13:13:54Z</dcterms:created>
  <dc:creator>User</dc:creator>
  <dc:description/>
  <dc:language>en-US</dc:language>
  <cp:lastModifiedBy>Admin</cp:lastModifiedBy>
  <dcterms:modified xsi:type="dcterms:W3CDTF">2012-04-09T07:02:59Z</dcterms:modified>
  <cp:revision>84</cp:revision>
  <dc:subject/>
  <dc:title> </dc:title>
</cp:coreProperties>
</file>