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EDA-C656-461E-AD65-745F8221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9E9-87B4-4909-BDF7-97F2D738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4E-B105-486D-99FC-EADDD920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909-93BB-472A-979F-74861D4E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B44-888D-4429-97C0-8CB62AB1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E069-87FA-4CE3-AFBA-B19A0C7D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8422-2C46-4AF1-8D1F-9E85B587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9AAB-21C0-4B00-A226-13E25F27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CCD-62C3-4D31-88C3-B3B062B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41B7-E681-44A1-98C7-B6648FE3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DA6-CC06-4A8F-BC71-CB9CCE6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0B4-4A7D-4A3F-ADF1-CC0707DE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F64B-EF4E-437A-9CAE-4ABE29A3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C8DA-FE81-4D10-996C-1BBCE07E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DF60-8D1E-445B-B453-8754C97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11EF-8946-465E-A287-90285195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167-AD48-4352-A01E-DB1A9715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C31-E8C6-4220-B009-4AC3763D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D1A-A240-437D-B9C5-2679C450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F5F-E90B-4CE5-A781-9F984736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B61-3D27-4636-B5E7-EE8C412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054-874D-4B4D-A887-D449CDA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2B9-76DC-4906-B7B9-5AFF32C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C4D-8D3F-4AFC-B5D9-511813F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2E58-BCED-4EE0-BA6A-F568FB504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399-465A-4208-AE71-91F21B16F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59280" y="1052640"/>
            <a:ext cx="32162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5:07:41Z</dcterms:created>
  <dc:creator>Порубские</dc:creator>
  <dc:description/>
  <dc:language>en-US</dc:language>
  <cp:lastModifiedBy>Порубские</cp:lastModifiedBy>
  <dcterms:modified xsi:type="dcterms:W3CDTF">2012-04-08T15:08:44Z</dcterms:modified>
  <cp:revision>1</cp:revision>
  <dc:subject/>
  <dc:title>Слайд 1</dc:title>
</cp:coreProperties>
</file>