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78F-AE04-48D8-B1A0-5C77B347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3F0-665A-472D-ADF8-3559A144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AD2-FC65-4955-854F-E97EA2EE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E72-0F26-4203-9B60-DB1BAD8A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E35F-ABAE-4DE4-AFBC-0CD6A600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316D-C882-4523-8292-FD2EDB63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0C4B-4CAA-4B7B-AF45-77B7A0A8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24A9-AC2D-4773-B456-26990382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AB76-BAA2-43AC-B480-9BB7291C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EFD-7553-48D8-9892-DED1E1BD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8300-B265-4EB2-B2BB-31FA07A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B10-083A-4A75-B7CD-EF13484E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5E4B-AF6E-4C27-8DF7-93F8F5A3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9C8C-0627-4EDA-84A3-6FADF0A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3650-A4C8-4D2E-A82B-D74C3DFE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DB4C-15FC-427E-95DE-9F8EA025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787D-F8D4-472D-9063-CF8D27F5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65F-EC99-4F1D-9A0D-01983115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C49-AF84-48D0-A71C-2A425E88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1FA-0FE0-450F-B640-CD366420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E4C-906C-4550-A414-3E13031E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1D5-73FC-44AE-B7C0-C6A06B9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8D2-3266-464B-AF0B-2C72C81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64B-3D23-4482-B3BE-572E8FA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7C0B-6D48-4BA4-82F1-5ACF0DB738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5EDD-0279-4586-8A2A-DB249FE686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Comic Sans MS"/>
              </a:rPr>
              <a:t>Письмо президента Клуб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рогие ребят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ам пишет президент Клуба серьёзных математиков. Я приглашаю всех желающих вступить в клуб. Наш клуб известен во всем мире. Как видно из названия , члены нашего клуба - трудолюбивые учащиеся. Они любят математику и не боятся трудностей. Для того, чтобы вступить в наш клуб, вам необходимо пройти два испытания: сдать теоретический материал и выполнить практические задания по теме «Сложение и вычитание обыкновенных дробей»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 буду рад приветствовать новых членов нашего клу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елаю удач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5:18:57Z</dcterms:created>
  <dc:creator>Порубские</dc:creator>
  <dc:description/>
  <dc:language>en-US</dc:language>
  <cp:lastModifiedBy>Порубские</cp:lastModifiedBy>
  <dcterms:modified xsi:type="dcterms:W3CDTF">2012-04-08T15:19:31Z</dcterms:modified>
  <cp:revision>1</cp:revision>
  <dc:subject/>
  <dc:title>Письмо президента Клуба</dc:title>
</cp:coreProperties>
</file>