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B4E-21E4-4395-B37C-CBE8BB43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03B-9301-4BBD-A116-DFA8E58D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AEA-F52A-4CE8-A11A-72988125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399-E076-4336-9AEE-F9891366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D437-A5CE-482F-9274-01F39E1B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AE8C-B44A-445F-A400-D5F63986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C182-1506-402B-B308-2B35130D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198A-2870-4CD5-A700-9438FA6E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50E0-D9B9-47D1-9B74-483AE040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8F24-9B3D-4FDB-BBA6-2148FB57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4E86-EEF3-4308-BC69-49C42D4B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568-8237-4B69-B50F-F47E32AC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76C9-1F83-4529-B069-7DEBDA4D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8E00-5F36-4EC3-8249-F5C5103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CE0E-5E9B-4057-B089-F83DDD88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BB64-5FB4-47FE-85C0-316C3421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0FF9-7715-46CA-A770-B80280B3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3E3C7-B2E9-4CEB-BB3D-D2CA078E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5254-E773-4A97-AC6A-24EA9BF0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C715D-65CF-45AA-8C11-290E9B67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B840-E738-4DCE-9B32-B4DC9DB2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B131-1FD1-4821-ADA6-2125CC51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05F-973F-48C5-B80C-1F7059B0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D5DC3-D87D-4A48-AEC1-D7F4D494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4DC2-9AA3-4BE4-9F8E-2E5EBA64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3EDD6-49F9-463F-BC72-9B200A66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526E-071A-4286-A588-61FA3007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6A50D-BC59-4DE1-BCD8-FCFC55C1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2CE21-00AF-4F7B-A968-87391857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53AC-338A-4B1D-B339-82DEB40F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E686E-B9CD-48C5-929E-AE0ACD97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3CABD-5BC7-4E02-A9BA-16720DEA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5A7C-BF63-4ACD-B46F-384BBF64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2A6-0788-4F6B-AA5E-06B1FFA5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25091-743E-4B09-BBC6-35ED979B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725A2-16B7-4B22-AA39-1BFE1170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9627-3D86-46D9-8E1F-F83210CF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BD07A-1AD0-4C10-A5F9-25E577DB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2D3E-2BF8-4BEE-8311-A8ACE1C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BDBCC-CCD3-4890-83CC-41957910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950C-17C9-4F63-AC90-104806FF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5E15-0A04-4A60-B8E0-5D496F06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B338-B009-49D1-9625-CC884CD8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BDFD3-204D-4A80-AF7A-B823C82B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1C7-F7CA-4D29-AEF6-03636941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78155-9DCF-43A4-94A1-2D2957F4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847BF-D441-4F9A-86BE-78FF65E9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E6461-91F4-433E-9132-512178A1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CDA89-4DE8-4412-A833-FC945CA3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EE85F-65E8-4066-9FFE-DCEEADDA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9C5A-4925-484A-BAA8-D515FBDB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60399-BDE6-4A49-9FFC-FA0B466D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9E2F3-BA39-4BA0-947F-96A75F7A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C92B8-BCBA-4F42-9AC2-D272DFF7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CE3CD-EC8E-404F-962B-C1CEFD5D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37E-F5AD-46DB-8084-E8D0F038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E0793-B5E5-40B3-817A-C255C2AD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05CF4-6468-4AEF-8688-96EA4E42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B16ED-BD5C-4630-B14A-93CE695A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E083F-8C63-4A48-B74A-8106B756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B5EB2-708F-4F88-A524-5BA3D1EC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16297-F903-455D-8C5B-3FC1124F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53C7E-257E-4D4C-B88C-C2C56C65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5EF09-89C9-46E2-8688-9E9B83AC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5FAE-F7BA-4482-8A77-3FD3F8D6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88ABA-144B-4FD0-92AC-9CB9D477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EAC-F760-4BAB-AA58-9D8A99E2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E300D-4F91-4825-9A6B-A43E27AD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7400C-7D77-4FA9-9753-7A3080FF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5ECDB-74E0-42A9-9D37-A5CC2572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D4D4A-CC9F-46FB-AA33-5A72EC20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523D0-1D02-45FE-B1B1-25F80DD3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9670B-08B7-4644-96F5-64340D97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53993-A4AC-4D85-90DE-5809E51F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51FB7-0A6D-41E1-A995-60225D5C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EC3E0-2602-4D05-BCEA-A18917D5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D7E83-2529-4D1A-9B9A-0EAC145A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EE4-086C-48B3-A91F-4AC0EAD9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81F17-8693-4480-A3D3-F6281CB5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E26AA-B435-4674-A7B1-C7970EA8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689D0-4DB1-44B3-A40B-7CD9281C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C7A57-7D10-4580-8C5C-A44006B4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48458-F582-4078-8C90-2239FC90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D9C5D3-B705-4221-93EB-6AF4D01B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2FCA6C-E20B-43B0-B9A6-A3EFBCBE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E30532-2D62-4159-A548-9460CE83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FD3853-C841-476A-A7BC-C8A75A06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3D607B-F4F3-41C8-B8BA-35179F52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61D-A320-481A-A772-8E085EA5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A4A038-FFDF-4B9F-9D3A-FF47A50E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D1146A-49C0-425D-A2EC-E45CC922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8DE0AF-93BA-4549-A14D-CE2D8320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8C873B-D48E-4ECF-AB27-A1611A3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95C8C1-612B-493E-B845-CE27A645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A9379C-0015-42D1-9D16-0D1E0762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D5FE4-847F-4B08-802F-E381FEAE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BE27-4F33-4D83-89FD-9090400D5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3BE1-336B-43AE-933E-3BAE89858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AE17-D191-4D9B-9780-3D52969258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0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0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59D6-1211-4DA3-BA09-58505DEA70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90BE-3407-4C95-8A3E-BDDB7F05D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7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44C4-A91A-40EF-A7AE-7E8B171E7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FAD0-5341-430D-A495-AC1747FE5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5AEF-9818-49AA-B7FC-06878B49C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40328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Доброе утро, родная земл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Доброе утро, большая семь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Доброе утро, учителю нашем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Доброе утро и солнышку красном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Сядем тихонько, откроем тетрад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Много в учебнике ждёт нас зад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Надо учиться слушать вниматель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Будем учиться мы очень стара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лжны закрепит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лгоритм сравнения обыкновенных дроб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лгоритм сложения и вычитания обыкновенных дробей с одинаковыми и разными знамена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обная реп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5616720" cy="381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стный счё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760" y="1196640"/>
            <a:ext cx="82929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Сократить дроби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Привести дроби к общему знаменателю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а)    и     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б)    и    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3. Сравнить дроби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а)    и   ;      в)    и   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б)    и     ;    г)    и     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4. Сложить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а)              б)                           в)                  г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5. Вычислить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а)              б)                   в) 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187280" y="1484280"/>
                <a:ext cx="10083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403280" y="2276640"/>
                <a:ext cx="225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763640" y="2276640"/>
                <a:ext cx="2937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403280" y="2852640"/>
                <a:ext cx="1843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763640" y="2852640"/>
                <a:ext cx="2588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332000" y="3645000"/>
                <a:ext cx="295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692360" y="3645000"/>
                <a:ext cx="295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403280" y="4221000"/>
                <a:ext cx="2588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1763640" y="4221000"/>
                <a:ext cx="2588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627280" y="3716280"/>
                <a:ext cx="196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916360" y="3716280"/>
                <a:ext cx="245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556000" y="4221000"/>
                <a:ext cx="258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987640" y="4221000"/>
                <a:ext cx="2588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476360" y="5013360"/>
                <a:ext cx="647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2556000" y="5013360"/>
                <a:ext cx="1511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4500720" y="5013360"/>
                <a:ext cx="647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5796000" y="5013360"/>
                <a:ext cx="6332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1403280" y="5877000"/>
                <a:ext cx="72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2556000" y="5877000"/>
                <a:ext cx="576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3943440" y="5805360"/>
                <a:ext cx="538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сторическая справ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лгое время к дробям было довольно особое отношение. Так, греческие купцы и строители пользовались дробями, а вот ученые дробей не признавали. Греческий ученый Платон, который жил в 4 веке до нашей эры, писал: «Если ты захочешь делить 1, математики высмеют тебя и не позволят это делать». И только Архимед решился нарушить запрет. При этом он сразу ввел в употребление дроби общего вида- 5/9, 22/7.Через 600 лет после Архимеда, другой греческий математик Диофант первым стал рассматривать дроби как чис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немцев до сих пор сохранилась поговорка «попасть в дроби»- это значит попасть в трудное полож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7:47:09Z</dcterms:created>
  <dc:creator>User</dc:creator>
  <dc:description/>
  <dc:language>en-US</dc:language>
  <cp:lastModifiedBy>Порубские</cp:lastModifiedBy>
  <dcterms:modified xsi:type="dcterms:W3CDTF">2012-04-07T10:46:21Z</dcterms:modified>
  <cp:revision>15</cp:revision>
  <dc:subject/>
  <dc:title>Тема занятия</dc:title>
</cp:coreProperties>
</file>