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42F9-4627-40D1-A552-78A2619EB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7EE9-78DA-4667-A295-771520019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FFDB-4725-41C3-A0D6-ED5A5489C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5204-2CE2-4470-8099-C42890FF4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863BB-EA94-47C6-8E4B-5F1E51201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94FF9-E884-4E81-9AC0-D457AB83A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9B506-D259-4D29-A628-45C5B6BB6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EBED6-597A-4471-8AE4-5BF4CC713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9E848-F5E4-49F5-A1F5-448A4CF2B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7DBCA-20C7-49A7-8757-D9D98659E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42611-FDDE-43CF-8DEE-A5E21E657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62E6-AFEF-4E61-8041-4372F1ECD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75D06-2FF6-4C29-BC8D-CB3F5D9E7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98819-6D53-441E-83ED-89D8F9B7E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C13F5-0AB1-49F0-BD1E-744E5AF60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1D410-7241-4FDC-BBA1-F3C1D7BB2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22858-14FC-4981-BA97-FF76DE8F2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1C68-0520-472E-A426-B88202592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A997-2D20-4985-9973-33D57863F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76FA-DAE6-42B4-8E97-484B9208A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E66A-951E-4911-B1D5-BBDF035FC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FDD9-D5AD-42DA-AA98-F09D630BD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CF82-B80D-4CCA-930E-581F58F09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88CE-23F3-48C7-97DC-B6011AB67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4B040-C7A6-4FB5-BF07-39440F971D72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1EB7E-82F6-4127-8A0A-F064E83D5E11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Карточки с заданиями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1)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    2)              3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4)            5)              6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7)                  8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332000" y="1125360"/>
                <a:ext cx="79200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&gt;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3708360" y="1125360"/>
                <a:ext cx="129528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6084720" y="1125360"/>
                <a:ext cx="86544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&lt;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403280" y="2276640"/>
                <a:ext cx="129708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3708360" y="2205000"/>
                <a:ext cx="79236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&lt;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6084720" y="2276640"/>
                <a:ext cx="11527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1332000" y="3429000"/>
                <a:ext cx="180000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1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1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4427640" y="3500280"/>
                <a:ext cx="1225440" cy="6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8T15:09:09Z</dcterms:created>
  <dc:creator>Порубские</dc:creator>
  <dc:description/>
  <dc:language>en-US</dc:language>
  <cp:lastModifiedBy>Порубские</cp:lastModifiedBy>
  <dcterms:modified xsi:type="dcterms:W3CDTF">2012-04-08T15:15:29Z</dcterms:modified>
  <cp:revision>1</cp:revision>
  <dc:subject/>
  <dc:title>Карточки с заданиями</dc:title>
</cp:coreProperties>
</file>