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AFE-4F75-4283-ABFF-AE33B168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98B-A93E-4F10-99D7-1F508BA7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1E8F-6E0B-4E6D-A6B3-915FB777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311C-0A62-43EF-8F0B-882982B3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ECC6-D83D-4336-950F-603856CB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DABA-C9E5-40E6-914E-148206F7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1D7A-80EB-44C5-8D37-0E71B475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DFC4-5182-4B11-B5BF-EBEBF71C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31C8-45D0-4A8D-8E88-4A590208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FDFB-693F-4D8F-863B-248D444B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27EB-9BE0-412F-815D-F4410E22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EABA-73D3-46A9-B4EB-5743D72B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AB30-64E0-4FD4-8A8C-8FD98218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BC32-ADBB-4DC0-B348-8AD147FD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3A60-4B91-497C-BAFC-79097582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84C6-75C7-42E4-819A-90D4CEC7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918D-1526-4EC1-8D69-6C2B182E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8D8E-E78C-4BB4-8A3E-390CF947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180C-1F30-42BB-AA78-EF25F6D0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5489-2BEA-45EC-B6E2-F8C07EFA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7748-63F1-4375-B43C-D8F72C78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5AC-B224-4DE9-9490-39A7C524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D33A-1EAD-420B-8803-D70D88D2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E30-F0B4-4FA0-9760-25C58D95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E697-9637-4054-8D61-0660BDD3AF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C:\Documents and Settings\Admin\Рабочий стол\для шаблонов\цветы\Безимени-1пп.gif"/>
          <p:cNvPicPr/>
          <p:nvPr/>
        </p:nvPicPr>
        <p:blipFill>
          <a:blip r:embed="rId2"/>
          <a:stretch/>
        </p:blipFill>
        <p:spPr>
          <a:xfrm>
            <a:off x="6380280" y="4500720"/>
            <a:ext cx="2763720" cy="21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Admin\Рабочий стол\для шаблонов\цветы\Безимени-1пп.gif"/>
          <p:cNvPicPr/>
          <p:nvPr/>
        </p:nvPicPr>
        <p:blipFill>
          <a:blip r:embed="rId2"/>
          <a:stretch/>
        </p:blipFill>
        <p:spPr>
          <a:xfrm>
            <a:off x="6380280" y="4500720"/>
            <a:ext cx="2763720" cy="217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\Рабочий стол\для шаблонов\цветы\коричнев.gif"/>
          <p:cNvPicPr/>
          <p:nvPr/>
        </p:nvPicPr>
        <p:blipFill>
          <a:blip r:embed="rId3"/>
          <a:stretch/>
        </p:blipFill>
        <p:spPr>
          <a:xfrm>
            <a:off x="7215120" y="6551640"/>
            <a:ext cx="90972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636D-0D98-48EC-8C91-45CC8E89F2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2920" y="2000160"/>
            <a:ext cx="751068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Мы строим Экогра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14800" y="4214880"/>
            <a:ext cx="54720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Хомякова В.И., учитель биологии Лупикова Е.Г., учитель хим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D:\Мои документы\Мои рисунки\12030101.jpg"/>
          <p:cNvPicPr/>
          <p:nvPr/>
        </p:nvPicPr>
        <p:blipFill>
          <a:blip r:embed="rId1"/>
          <a:stretch/>
        </p:blipFill>
        <p:spPr>
          <a:xfrm>
            <a:off x="281160" y="208080"/>
            <a:ext cx="19382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8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6000" y="928800"/>
            <a:ext cx="6400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f75"/>
                </a:solidFill>
                <a:latin typeface="Georgia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Глобальными называют проблемы, которые охватывают весь  мир, вс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ë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 человечество, создают угрозу  для его настоящего и будущего и требуют для своего решения  объединённых  усилий, совместных действий всех   государств и народ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D:\Мои документы\Мои рисунки\12030101.jpg"/>
          <p:cNvPicPr/>
          <p:nvPr/>
        </p:nvPicPr>
        <p:blipFill>
          <a:blip r:embed="rId1"/>
          <a:stretch/>
        </p:blipFill>
        <p:spPr>
          <a:xfrm>
            <a:off x="353880" y="208080"/>
            <a:ext cx="1938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СОП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 Международный  Союз Охраны  Природы  и  Природных  Ресурсов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ЮНЕСКО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 Организация  Объединенных  Наций  по  вопросам образования, науки и 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ринпи́с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(англ. Greenpeace — «зелёный мир») —  международная общественная природоохранная организ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43120" y="274680"/>
            <a:ext cx="6043680" cy="13240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f75"/>
                </a:solidFill>
                <a:latin typeface="Georgia"/>
              </a:rPr>
              <a:t>Экологические орган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D:\Мои документы\Мои рисунки\12030101.jpg"/>
          <p:cNvPicPr/>
          <p:nvPr/>
        </p:nvPicPr>
        <p:blipFill>
          <a:blip r:embed="rId1"/>
          <a:stretch/>
        </p:blipFill>
        <p:spPr>
          <a:xfrm>
            <a:off x="353880" y="208080"/>
            <a:ext cx="1938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7856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Цель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—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добиться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реш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глобальных экологических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проблем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, в том числе пут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ривлечения  к ним вним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общественности и власт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85680" y="183960"/>
            <a:ext cx="5900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D:\Мои документы\Мои рисунки\12030101.jpg"/>
          <p:cNvPicPr/>
          <p:nvPr/>
        </p:nvPicPr>
        <p:blipFill>
          <a:blip r:embed="rId1"/>
          <a:stretch/>
        </p:blipFill>
        <p:spPr>
          <a:xfrm>
            <a:off x="353880" y="208080"/>
            <a:ext cx="1938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f75"/>
                </a:solidFill>
                <a:latin typeface="Georgia"/>
              </a:rPr>
              <a:t>ФАКТОРЫ ЗДОРОВЬ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4" descr="ЗДОРОВЬЕ"/>
          <p:cNvPicPr/>
          <p:nvPr/>
        </p:nvPicPr>
        <p:blipFill>
          <a:blip r:embed="rId1"/>
          <a:stretch/>
        </p:blipFill>
        <p:spPr>
          <a:xfrm>
            <a:off x="2714760" y="1143000"/>
            <a:ext cx="5572080" cy="4911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D:\Мои документы\Мои рисунки\12030101.jpg"/>
          <p:cNvPicPr/>
          <p:nvPr/>
        </p:nvPicPr>
        <p:blipFill>
          <a:blip r:embed="rId2"/>
          <a:stretch/>
        </p:blipFill>
        <p:spPr>
          <a:xfrm>
            <a:off x="353880" y="208080"/>
            <a:ext cx="1938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d5a50"/>
                </a:solidFill>
                <a:latin typeface="Georgia"/>
              </a:rPr>
              <a:t>ПОСТРОИТЬ ДО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3" descr="E:\картинки\020\00000052.JPG"/>
          <p:cNvPicPr/>
          <p:nvPr/>
        </p:nvPicPr>
        <p:blipFill>
          <a:blip r:embed="rId1"/>
          <a:stretch/>
        </p:blipFill>
        <p:spPr>
          <a:xfrm>
            <a:off x="500040" y="1571760"/>
            <a:ext cx="3429000" cy="4786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F:\прентация о черная1\0_STATIC5aa14_98955895_L.jpg"/>
          <p:cNvPicPr/>
          <p:nvPr/>
        </p:nvPicPr>
        <p:blipFill>
          <a:blip r:embed="rId2"/>
          <a:stretch/>
        </p:blipFill>
        <p:spPr>
          <a:xfrm>
            <a:off x="4000680" y="1571760"/>
            <a:ext cx="33573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5a50"/>
                </a:solidFill>
                <a:latin typeface="Arial"/>
              </a:rPr>
              <a:t>ПОСАДИТЬ ДЕРЕ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1" descr="E:\картинки\047\00000055.JPG"/>
          <p:cNvPicPr/>
          <p:nvPr/>
        </p:nvPicPr>
        <p:blipFill>
          <a:blip r:embed="rId1"/>
          <a:srcRect l="8637" t="20620" r="3322" b="2438"/>
          <a:stretch/>
        </p:blipFill>
        <p:spPr>
          <a:xfrm>
            <a:off x="428760" y="1428840"/>
            <a:ext cx="3643200" cy="49291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E:\картинки\Новокузнецк\57.JPG"/>
          <p:cNvPicPr/>
          <p:nvPr/>
        </p:nvPicPr>
        <p:blipFill>
          <a:blip r:embed="rId2"/>
          <a:srcRect l="36623" t="0" r="0" b="0"/>
          <a:stretch/>
        </p:blipFill>
        <p:spPr>
          <a:xfrm>
            <a:off x="4000680" y="1428840"/>
            <a:ext cx="38574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214280"/>
            <a:ext cx="822960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d5a50"/>
                </a:solidFill>
                <a:latin typeface="Arial"/>
              </a:rPr>
              <a:t>ВЫРАСТИТЬ РЕБЕН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3" descr="d-038"/>
          <p:cNvPicPr/>
          <p:nvPr/>
        </p:nvPicPr>
        <p:blipFill>
          <a:blip r:embed="rId1"/>
          <a:srcRect l="4619" t="0" r="0" b="0"/>
          <a:stretch/>
        </p:blipFill>
        <p:spPr>
          <a:xfrm>
            <a:off x="1357200" y="928800"/>
            <a:ext cx="62150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56920" y="214200"/>
            <a:ext cx="65725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Химико-экологические проблемы   и охрана атмосфер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357280"/>
            <a:ext cx="80438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ование см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грязнение атмосферы токсическими веществ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ислотные дож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рушение озонового сло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арниковый эффек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5" descr="D:\Мои документы\Мои рисунки\12030101.jpg"/>
          <p:cNvPicPr/>
          <p:nvPr/>
        </p:nvPicPr>
        <p:blipFill>
          <a:blip r:embed="rId1"/>
          <a:stretch/>
        </p:blipFill>
        <p:spPr>
          <a:xfrm>
            <a:off x="353880" y="208080"/>
            <a:ext cx="1938600" cy="1944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http://img-2004-11.photosight.ru/22/682568.jpg"/>
          <p:cNvPicPr/>
          <p:nvPr/>
        </p:nvPicPr>
        <p:blipFill>
          <a:blip r:embed="rId2"/>
          <a:stretch/>
        </p:blipFill>
        <p:spPr>
          <a:xfrm>
            <a:off x="4714920" y="4786200"/>
            <a:ext cx="4429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99840" y="285840"/>
            <a:ext cx="66438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сновные источники загрязнения атмосфе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42960" y="2356920"/>
            <a:ext cx="804384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изводства по выработке электроэнер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изводства неорганических веществ и металлур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мышленный органический синте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ранспо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ммунально-бытовой сек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льское хозяй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5" descr="D:\Мои документы\Мои рисунки\12030101.jpg"/>
          <p:cNvPicPr/>
          <p:nvPr/>
        </p:nvPicPr>
        <p:blipFill>
          <a:blip r:embed="rId1"/>
          <a:stretch/>
        </p:blipFill>
        <p:spPr>
          <a:xfrm>
            <a:off x="353880" y="208080"/>
            <a:ext cx="1938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14400" y="274320"/>
            <a:ext cx="59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Основные источники загрязнения гидросферы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71320" y="2285640"/>
            <a:ext cx="80722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очные 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Нефть и нефтепроду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Загрязнения твердым мусо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5" descr="D:\Мои документы\Мои рисунки\12030101.jpg"/>
          <p:cNvPicPr/>
          <p:nvPr/>
        </p:nvPicPr>
        <p:blipFill>
          <a:blip r:embed="rId1"/>
          <a:stretch/>
        </p:blipFill>
        <p:spPr>
          <a:xfrm>
            <a:off x="353880" y="208080"/>
            <a:ext cx="1938600" cy="194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62446_20060913195918[1]"/>
          <p:cNvPicPr/>
          <p:nvPr/>
        </p:nvPicPr>
        <p:blipFill>
          <a:blip r:embed="rId2"/>
          <a:stretch/>
        </p:blipFill>
        <p:spPr>
          <a:xfrm>
            <a:off x="3720960" y="3857760"/>
            <a:ext cx="54230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147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пиграф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   Люди повинуются законам природы даже когда действуют против не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И. Г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ë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28480" y="4071600"/>
            <a:ext cx="74293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евиз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умай глобально – решай локаль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D:\Мои документы\Мои рисунки\12030101.jpg"/>
          <p:cNvPicPr/>
          <p:nvPr/>
        </p:nvPicPr>
        <p:blipFill>
          <a:blip r:embed="rId1"/>
          <a:stretch/>
        </p:blipFill>
        <p:spPr>
          <a:xfrm>
            <a:off x="353880" y="208080"/>
            <a:ext cx="1938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56880"/>
            <a:ext cx="4040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85480" y="1499760"/>
            <a:ext cx="83581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42960" y="1714680"/>
            <a:ext cx="804384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ериод разложения твердого мус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99680" y="2642760"/>
            <a:ext cx="8186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Бумага – 2-3 го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зделия из ткани – 2-3 го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Деревянные изделия – несколько десятков л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сервная банка – 90 л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лиэтиленовый пакет – 200 л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ластмасса – 500 л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текло – 1 000 л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F:\МС_B@Ru$\Програм Ruse\Экология\Разрушение\recycle4.jpg"/>
          <p:cNvPicPr/>
          <p:nvPr/>
        </p:nvPicPr>
        <p:blipFill>
          <a:blip r:embed="rId1"/>
          <a:stretch/>
        </p:blipFill>
        <p:spPr>
          <a:xfrm>
            <a:off x="0" y="0"/>
            <a:ext cx="1857240" cy="1714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F:\МС_B@Ru$\Програм Ruse\Экология\Разрушение\recycle7.jpg"/>
          <p:cNvPicPr/>
          <p:nvPr/>
        </p:nvPicPr>
        <p:blipFill>
          <a:blip r:embed="rId2"/>
          <a:stretch/>
        </p:blipFill>
        <p:spPr>
          <a:xfrm>
            <a:off x="178596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F:\МС_B@Ru$\Програм Ruse\Экология\Разрушение\recycle8.jpg"/>
          <p:cNvPicPr/>
          <p:nvPr/>
        </p:nvPicPr>
        <p:blipFill>
          <a:blip r:embed="rId3"/>
          <a:stretch/>
        </p:blipFill>
        <p:spPr>
          <a:xfrm>
            <a:off x="3429000" y="0"/>
            <a:ext cx="1785960" cy="1714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F:\МС_B@Ru$\Програм Ruse\Экология\Разрушение\recycle9.jpg"/>
          <p:cNvPicPr/>
          <p:nvPr/>
        </p:nvPicPr>
        <p:blipFill>
          <a:blip r:embed="rId4"/>
          <a:stretch/>
        </p:blipFill>
        <p:spPr>
          <a:xfrm>
            <a:off x="5143680" y="0"/>
            <a:ext cx="1928520" cy="1714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F:\МС_B@Ru$\Програм Ruse\Экология\Разрушение\GARBAGE1.jpg"/>
          <p:cNvPicPr/>
          <p:nvPr/>
        </p:nvPicPr>
        <p:blipFill>
          <a:blip r:embed="rId5"/>
          <a:stretch/>
        </p:blipFill>
        <p:spPr>
          <a:xfrm>
            <a:off x="7072200" y="0"/>
            <a:ext cx="207180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0200" y="857160"/>
            <a:ext cx="595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Химико-экологические проблемы и охрана литосфер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99680" y="2143080"/>
            <a:ext cx="46436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рациональное использование минеральных природных рес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хоронение отход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равление почвы химическими средствами защиты раст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рациональное использование минеральных удобр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D:\Мои документы\Мои рисунки\12030101.jpg"/>
          <p:cNvPicPr/>
          <p:nvPr/>
        </p:nvPicPr>
        <p:blipFill>
          <a:blip r:embed="rId1"/>
          <a:stretch/>
        </p:blipFill>
        <p:spPr>
          <a:xfrm>
            <a:off x="281160" y="133200"/>
            <a:ext cx="1938240" cy="19447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4" descr="http://udf.by/uploads/posts/2010-03/1269603116_musor_poberezhje.jpg"/>
          <p:cNvPicPr/>
          <p:nvPr/>
        </p:nvPicPr>
        <p:blipFill>
          <a:blip r:embed="rId2"/>
          <a:stretch/>
        </p:blipFill>
        <p:spPr>
          <a:xfrm>
            <a:off x="4857840" y="4357800"/>
            <a:ext cx="42861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71840" y="274680"/>
            <a:ext cx="611496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Экологические проблемы и здоровье челове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271440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интетические материал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Накопление отход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Энергетические объект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Химические вещества и лекарственные сред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5" descr="D:\Мои документы\Мои рисунки\12030101.jpg"/>
          <p:cNvPicPr/>
          <p:nvPr/>
        </p:nvPicPr>
        <p:blipFill>
          <a:blip r:embed="rId1"/>
          <a:stretch/>
        </p:blipFill>
        <p:spPr>
          <a:xfrm>
            <a:off x="353880" y="208080"/>
            <a:ext cx="1938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14720" y="42840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оведение исследования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5" descr="D:\Мои документы\Мои рисунки\12030101.jpg"/>
          <p:cNvPicPr/>
          <p:nvPr/>
        </p:nvPicPr>
        <p:blipFill>
          <a:blip r:embed="rId1"/>
          <a:stretch/>
        </p:blipFill>
        <p:spPr>
          <a:xfrm>
            <a:off x="353880" y="208080"/>
            <a:ext cx="1938600" cy="1944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C:\Documents and Settings\Лена\Рабочий стол\Лена\анимация\Предметы\J0076135.GIF"/>
          <p:cNvPicPr/>
          <p:nvPr/>
        </p:nvPicPr>
        <p:blipFill>
          <a:blip r:embed="rId2"/>
          <a:stretch/>
        </p:blipFill>
        <p:spPr>
          <a:xfrm flipH="1">
            <a:off x="2286000" y="2643120"/>
            <a:ext cx="61437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42880" y="274320"/>
            <a:ext cx="454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Защита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16840" y="561960"/>
            <a:ext cx="2520360" cy="1191960"/>
          </a:xfrm>
          <a:prstGeom prst="rect">
            <a:avLst/>
          </a:prstGeom>
          <a:solidFill>
            <a:srgbClr val="61b6ff"/>
          </a:solidFill>
          <a:ln w="25560">
            <a:solidFill>
              <a:srgbClr val="5c9929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КОЛОГ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8"/>
          <p:cNvSpPr/>
          <p:nvPr/>
        </p:nvSpPr>
        <p:spPr>
          <a:xfrm>
            <a:off x="3357720" y="1785960"/>
            <a:ext cx="55720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eorgia"/>
              </a:rPr>
              <a:t>Мы строим Эко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Какие факторы учитывают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озеленения города, шко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Значение зеленых насажд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Наиболее вынослив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растений  к загрязнению среды в   город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148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Защита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714400" y="2000160"/>
            <a:ext cx="57862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eorgia"/>
              </a:rPr>
              <a:t>Мы строим Экогр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Способы сохранени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физического здоров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психического здоровь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нравственного здоровь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Крест 3"/>
          <p:cNvSpPr/>
          <p:nvPr/>
        </p:nvSpPr>
        <p:spPr>
          <a:xfrm>
            <a:off x="0" y="0"/>
            <a:ext cx="2928960" cy="25002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ЕД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214800" y="1643040"/>
            <a:ext cx="521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eorgia"/>
              </a:rPr>
              <a:t>Мы строим Экогр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2960" y="493200"/>
            <a:ext cx="1643040" cy="2800440"/>
          </a:xfrm>
          <a:prstGeom prst="rect">
            <a:avLst/>
          </a:prstGeom>
          <a:solidFill>
            <a:srgbClr val="835e01"/>
          </a:solidFill>
          <a:ln w="25560">
            <a:solidFill>
              <a:srgbClr val="5c9929"/>
            </a:solidFill>
            <a:miter/>
          </a:ln>
        </p:spPr>
        <p:txBody>
          <a:bodyPr lIns="102600" rIns="102600" tIns="59400" bIns="59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Равнобедренный треугольник 6"/>
          <p:cNvSpPr/>
          <p:nvPr/>
        </p:nvSpPr>
        <p:spPr>
          <a:xfrm>
            <a:off x="0" y="0"/>
            <a:ext cx="2928960" cy="928800"/>
          </a:xfrm>
          <a:prstGeom prst="triangle">
            <a:avLst>
              <a:gd name="adj" fmla="val 50315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ТРО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7"/>
          <p:cNvSpPr/>
          <p:nvPr/>
        </p:nvSpPr>
        <p:spPr>
          <a:xfrm>
            <a:off x="3395520" y="500040"/>
            <a:ext cx="53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ащита про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2714760" y="2536920"/>
            <a:ext cx="5929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Какие материалы выбр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для строительства  и внутренней отделки до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От каких материалов лучше отказаться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Какую выбрать мебе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G:\прентация о черная\Природа\68005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01)_(www.muzico.ru).mp3" descr=""/>
          <p:cNvPicPr/>
          <p:nvPr/>
        </p:nvPicPr>
        <p:blipFill>
          <a:blip r:embed="rId3"/>
          <a:stretch/>
        </p:blipFill>
        <p:spPr>
          <a:xfrm>
            <a:off x="8215200" y="5786280"/>
            <a:ext cx="447840" cy="4478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1000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300992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856880" y="2714400"/>
            <a:ext cx="68295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f75"/>
                </a:solidFill>
                <a:latin typeface="Arial"/>
              </a:rPr>
              <a:t>Все тесно связано вокруг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f75"/>
                </a:solidFill>
                <a:latin typeface="Arial"/>
              </a:rPr>
              <a:t>Примеры мы не будем множи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f75"/>
                </a:solidFill>
                <a:latin typeface="Arial"/>
              </a:rPr>
              <a:t>Цветка ты не заденешь вдруг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f75"/>
                </a:solidFill>
                <a:latin typeface="Arial"/>
              </a:rPr>
              <a:t>Чтобы звезды не потревожит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5" descr="D:\Мои документы\Мои рисунки\12030101.jpg"/>
          <p:cNvPicPr/>
          <p:nvPr/>
        </p:nvPicPr>
        <p:blipFill>
          <a:blip r:embed="rId1"/>
          <a:stretch/>
        </p:blipFill>
        <p:spPr>
          <a:xfrm>
            <a:off x="353880" y="208080"/>
            <a:ext cx="1938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пение птиц в лесу.wma" descr=""/>
          <p:cNvPicPr/>
          <p:nvPr/>
        </p:nvPicPr>
        <p:blipFill>
          <a:blip r:embed="rId2"/>
          <a:stretch/>
        </p:blipFill>
        <p:spPr>
          <a:xfrm>
            <a:off x="8001000" y="5643720"/>
            <a:ext cx="447840" cy="447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799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210680" cy="6908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Мы строим Экоград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00160" y="2071800"/>
            <a:ext cx="668664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Эпиграф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Люди повинуются законам природы даже когда действуют против не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                   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И. Г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ë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Девиз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Думай глобально – решай локальн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D:\Мои документы\Мои рисунки\12030101.jpg"/>
          <p:cNvPicPr/>
          <p:nvPr/>
        </p:nvPicPr>
        <p:blipFill>
          <a:blip r:embed="rId1"/>
          <a:stretch/>
        </p:blipFill>
        <p:spPr>
          <a:xfrm>
            <a:off x="281160" y="208080"/>
            <a:ext cx="19382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Рабочие груп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89000" y="1472760"/>
            <a:ext cx="3873240" cy="1117440"/>
          </a:xfrm>
          <a:prstGeom prst="rect">
            <a:avLst/>
          </a:prstGeom>
          <a:solidFill>
            <a:srgbClr val="61b6ff"/>
          </a:solidFill>
          <a:ln w="25560">
            <a:solidFill>
              <a:srgbClr val="5c9929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КОЛОГ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Крест 4"/>
          <p:cNvSpPr/>
          <p:nvPr/>
        </p:nvSpPr>
        <p:spPr>
          <a:xfrm>
            <a:off x="4857840" y="3071880"/>
            <a:ext cx="3429000" cy="307188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ЕД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1285920" y="4143240"/>
            <a:ext cx="2071800" cy="1857600"/>
          </a:xfrm>
          <a:prstGeom prst="rect">
            <a:avLst/>
          </a:prstGeom>
          <a:solidFill>
            <a:srgbClr val="835e01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Равнобедренный треугольник 6"/>
          <p:cNvSpPr/>
          <p:nvPr/>
        </p:nvSpPr>
        <p:spPr>
          <a:xfrm>
            <a:off x="285840" y="2928960"/>
            <a:ext cx="4143240" cy="1214280"/>
          </a:xfrm>
          <a:prstGeom prst="triangle">
            <a:avLst>
              <a:gd name="adj" fmla="val 50315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ТРО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28880" y="357120"/>
            <a:ext cx="67579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Экологические законы рационального природополь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3572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сё связано со вс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За всё надо плат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сё надо куда-то дев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ирода знает лучш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D:\Мои документы\Мои рисунки\12030101.jpg"/>
          <p:cNvPicPr/>
          <p:nvPr/>
        </p:nvPicPr>
        <p:blipFill>
          <a:blip r:embed="rId1"/>
          <a:stretch/>
        </p:blipFill>
        <p:spPr>
          <a:xfrm>
            <a:off x="353880" y="208080"/>
            <a:ext cx="1938600" cy="1944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5:36:49Z</dcterms:created>
  <dc:creator>Федотова Виктория Александровна</dc:creator>
  <dc:description/>
  <dc:language>en-US</dc:language>
  <cp:lastModifiedBy>User</cp:lastModifiedBy>
  <dcterms:modified xsi:type="dcterms:W3CDTF">2005-11-03T03:09:33Z</dcterms:modified>
  <cp:revision>41</cp:revision>
  <dc:subject/>
  <dc:title>Слайд 1</dc:title>
</cp:coreProperties>
</file>